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753-466C-4E29-97C9-56DDE5AC10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678B-1750-4E18-98E7-06319BDA51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B53-FC13-48F8-8BA2-C0702446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C00-665F-4BA9-809C-93E7CB36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F54-0858-4AE1-86DD-E75E070C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A78-D303-49E8-9106-E866E4BA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DAF-0D9B-4FD8-AB5A-475FC77F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DEE8-93F6-4910-8D99-C840B40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7CBD-9236-4465-A3F5-EC98F4B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B3F-D5AB-4B83-AA5A-A1C24542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CB27-D3A6-4F53-95C2-C8F2FC3F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A0D-D163-47D5-B0D2-BF982A9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884B-3A12-475A-849E-854E337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4FA-DA56-4B49-8FA6-451CB3AF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443-7945-476C-86FE-255F424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1456-85EE-47CB-BA6B-18D35568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4ED-E338-43DB-BEB6-ADEEA34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CB29-67B0-4279-9C69-CAE72366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3BFA-96DB-47C8-A7AC-490C0EF5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621-B0AF-4FD4-B88C-68F87D8C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980-903C-46EA-A3BD-478AED7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AC9-B521-471F-A1AE-1A854A81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92C-EBA7-4E46-8427-02ACEE74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0CE-0BCA-4DA7-84FA-034CCBD3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115-27B8-4647-A838-327121F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1E0-5FE3-4588-98D4-99AD5B8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8EE-1E13-490F-B2E2-0167515C1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36D3-8DED-42C9-B581-33AB0F567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ux petits comme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016080" cy="332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3087720" y="0"/>
            <a:ext cx="3016080" cy="329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6211800" y="0"/>
            <a:ext cx="3016440" cy="3290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15840" y="3659040"/>
            <a:ext cx="3108240" cy="319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>
            <a:off x="2971800" y="3657600"/>
            <a:ext cx="3108240" cy="319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6"/>
          <a:stretch/>
        </p:blipFill>
        <p:spPr>
          <a:xfrm>
            <a:off x="6019920" y="3659040"/>
            <a:ext cx="3108240" cy="3198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228600" y="38088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276720" y="45720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400800" y="45720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52280" y="4191120"/>
            <a:ext cx="38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3124080" y="4267080"/>
            <a:ext cx="38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172200" y="419112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2-05T16:04:18Z</dcterms:modified>
  <cp:revision>94</cp:revision>
  <dc:subject/>
  <dc:title>Allez, viens! – Level 2</dc:title>
</cp:coreProperties>
</file>